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DA12-EE0D-45ED-869C-0221D5FA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F156-BF3A-46BD-B885-1223C34C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728E-CD3F-4BC1-8876-93633F7B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F76-D60F-4555-9FD4-B49BF728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EF2B-DDEA-49E9-90D6-98B4AF5E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ABC3-27C8-47BC-82CD-49B8A4AF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5EF2-FDAD-4A6C-BC01-2C20EBEA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AD90-934B-4D9C-9D9C-DFF6CA84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46C5-C039-4B83-8DB9-8491EFF4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8F6-B519-4D29-A57F-7868ACF6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960-02B1-42A2-942F-A7080376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C414-3E57-4E8A-BD7C-B110BEC6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A221-30C2-4724-AABB-333921678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8900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TOTAL DEL MERCADO DE REASEG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IFRAS EN P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836280"/>
            <a:ext cx="10159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/12/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1052640"/>
          <a:ext cx="8640360" cy="272880"/>
        </p:xfrm>
        <a:graphic>
          <a:graphicData uri="http://schemas.openxmlformats.org/drawingml/2006/table">
            <a:tbl>
              <a:tblPr/>
              <a:tblGrid>
                <a:gridCol w="4370760"/>
                <a:gridCol w="42696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AC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PAS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179280" y="1357200"/>
            <a:ext cx="2113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onibil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éd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mue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ienes de U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tros Ac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TOTAL A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2600" y="1362240"/>
            <a:ext cx="1535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368.222.5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339920"/>
            <a:ext cx="27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u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ompromisos Técn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vi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rticipación de 3º en Soc. Control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TOTAL PAS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PATRIMONIO N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PASIVO + PATRIMON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6000" y="1368360"/>
            <a:ext cx="1535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321.424.3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46.798.2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368.222.5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8600" y="2743200"/>
          <a:ext cx="8627760" cy="288720"/>
        </p:xfrm>
        <a:graphic>
          <a:graphicData uri="http://schemas.openxmlformats.org/drawingml/2006/table">
            <a:tbl>
              <a:tblPr/>
              <a:tblGrid>
                <a:gridCol w="4364640"/>
                <a:gridCol w="4263120"/>
              </a:tblGrid>
              <a:tr h="28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ESTRUCTURA TEC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ESTRUCTURA FINANCI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79280" y="3000240"/>
            <a:ext cx="3328920" cy="34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PRIMAS Y RECARGOS DEVENG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mas de Reaseg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romisos Técnicos del Ejerc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romisos Técnicos del Ej. A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IB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SINIESTROS NETOS DEVENG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niestros Pagados N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niestros Pendientes del Ejerc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niestros Pendientes del Ej. A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GASTOS TO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astos de Produc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astos de Explo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RESULTADO TECNICO DEL REASEG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*) O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RESULTADO TE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048120"/>
            <a:ext cx="1008000" cy="34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127.713.8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-5.611.8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-94.328.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-31.971.7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-4.198.3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-2.319.6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-6.517.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56000" y="3022560"/>
            <a:ext cx="107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0.976.3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13.992.7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.730.2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58.042.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237.894.9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1.608.4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25.880.5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6.091.2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3011400"/>
            <a:ext cx="3600360" cy="34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sultado por Re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sultado por Ten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Otros Ingre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Otros Egre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Gastos de Explotación y Otros Car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RESULTADO 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rticipación de 3º en Soc. Control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RESULTADO DE OPERACIONES ORDIN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sultado de Operaciones Extraordinari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mpuesto a las Gana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RESULTADO DEL EJERC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12000" y="3022560"/>
            <a:ext cx="936720" cy="34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5.704.0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-813.8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-1.936.4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-2.750.2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50040" y="3006720"/>
            <a:ext cx="153504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.245.6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99.8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3.760.0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18.3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240.8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1.259.0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597720"/>
            <a:ext cx="748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*)  Ingresos, Egresos, Indemnizaciones y 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6524640"/>
            <a:ext cx="835164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44720" y="1362240"/>
            <a:ext cx="1535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450.1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78.231.4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73.228.5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.979.0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4.9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38.4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38880" y="1379520"/>
            <a:ext cx="153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05.419.0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.992.7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012.4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8:09:23Z</dcterms:created>
  <dc:creator>arodriguez</dc:creator>
  <dc:description/>
  <dc:language>en-US</dc:language>
  <cp:lastModifiedBy>arodriguez</cp:lastModifiedBy>
  <dcterms:modified xsi:type="dcterms:W3CDTF">2006-07-26T19:26:56Z</dcterms:modified>
  <cp:revision>14</cp:revision>
  <dc:subject/>
  <dc:title>Diapositiva 1</dc:title>
</cp:coreProperties>
</file>